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5FB-5C3A-4AA7-9DD4-CEBDB719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5D1-92CA-4F27-8E9E-0C56ED81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8D9-BD5B-40A8-8470-EB522650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E9D-886C-409B-8D3C-267AFCB5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B6A-D00F-483B-8D9C-CCAF34EE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41B-CF1F-4133-84D9-74A1C17B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C7D-EF8D-4278-92B2-CBB0A276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30E-D596-4264-91E5-964582DB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469-F49B-40BD-BF51-C6CC0680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8EC-9787-4483-8A38-4D5690E2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0C5-9675-4129-B82A-08711640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9C1-9549-421C-BB4C-9CDF1E56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91FD-9981-4C50-B472-B2820FF72B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xpo E-Learning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ssione Plenaria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AD e Salvaguardia del Patrimonio Ambientale e Culturale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errara 10 ottobr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La Formazione Ambientale a Distanz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di AP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g. Gaetano Battistella (Responsab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r.ssa Daniela Antonie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r. Claudio La 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rvizio Promozione della Formazione Ambien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In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trodu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attività  APAT per la Formazione Ambi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attività del Servizio per la Promozione della Formazione Ambi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Formazione Ambientale a Distanza di A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Prototipo di Formazione Ambientale a Distanza di A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fer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7. Riferime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WWW.APAT.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FAD@APAT.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0:47:48Z</dcterms:created>
  <dc:creator> </dc:creator>
  <dc:description/>
  <dc:language>en-US</dc:language>
  <cp:lastModifiedBy> </cp:lastModifiedBy>
  <dcterms:modified xsi:type="dcterms:W3CDTF">2006-09-19T14:43:32Z</dcterms:modified>
  <cp:revision>90</cp:revision>
  <dc:subject/>
  <dc:title>Expo E-Learning Sessione Plenaria FAD e Salvaguardia del Patrimonio  Ambientale e Culturale Ferrara 10 ottobre 2004</dc:title>
</cp:coreProperties>
</file>